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157E-5DF8-401F-A5CB-A052BEA7B1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060D-3A14-4080-997F-9C4A4444E88A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43D6-D653-44D6-8501-E0F32587E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9DFCE-CD01-4DAF-B3E6-6751CDEFB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8C63-61E8-4407-831E-A99AFFA2D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39DAA-3FA2-4FA5-B35C-231AD1DAD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E6820-C4D0-411D-8097-D08432335F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7E9B4-1BE7-453F-BDB4-5C9AD31549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2ED51-684D-4745-94E7-C4D702C388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A4B78-8BDE-44D0-BDF6-3A4283CD63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C5B9D-EC1C-4A58-8E9F-6C45411064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B4150-3E09-441E-B11A-6B5C716D6B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2E7C0-6A34-466D-BD6D-F9266CC6FD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335EE-1AE0-4BBE-9FBD-E68F63990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B9212-45FD-4444-96D1-C05B6E42B9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28C35-2FEE-48A6-B350-BF630343E2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71014-9A65-4D73-881A-02C200DCC3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B7950-1AAB-450A-855A-11A1BFE537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F3BDA-F83E-4F32-A371-3A246CB7ED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EEED2-DBE7-43F3-A8CA-243CEB3DB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059CB-F3E8-4784-A1B2-8BA907A7D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81CF-8E92-45A7-AA15-B9ED36655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460C-F25C-4C17-9537-E6EF18F74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8ED9E-97E6-494C-B5D7-84C993CF0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22180-AD13-48F5-9B58-2120E5254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1005-4829-418D-AB2F-175CF572F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D9FA5F0-5C0E-4CCC-A778-AECA5E9085A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00E07D4-8F11-4CB8-A0D8-C54097726F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19920" y="204840"/>
            <a:ext cx="245268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5651640" y="306360"/>
            <a:ext cx="287496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9B81939-10F4-485A-B67E-C12981871BE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FC4EB83-92AF-4F77-A6C8-3617397B9A0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http://onlinestatbook.com/stat_sim/sampling_dist/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20-11-09T12:19:25Z</dcterms:modified>
  <cp:revision>353</cp:revision>
  <dc:subject/>
  <dc:title>Exploratory Data Analysis</dc:title>
</cp:coreProperties>
</file>